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6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E8BE-7358-48F3-9842-A8588FFC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029-7711-44E2-B554-F07AA7F3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AA09-A50E-419A-A53E-3992FBCE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E2B-1230-4476-81C7-5C7C9410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3AA2-2FCE-406D-835C-E8812138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623C-DA95-4DCA-A9F5-23E7585C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E59F-48FB-416A-A2EE-453995CF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0560-6F2F-40C1-9A71-752A052E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0C81-99C1-4B4C-99AA-1944B838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6CCC-314B-461A-B370-086D5119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23E9-BC7C-4100-B897-CCC9E183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100-E6D2-46BF-B88D-7A4EFA07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0C57-D035-4469-97F3-80B4C60B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D222-B0CB-46D8-913C-7711140F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9B0D-6168-457C-85AE-45752AFF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8BEE-C2EC-4F35-8E50-B999C202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BCA9-78A2-412E-BB48-91B993C7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6C9E9-5B14-4731-8156-1E97A8F7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5AC48-0396-45AF-8D63-A0A37B61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22193-0F89-4882-B987-64D8E8B5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7056E-C61C-4B58-8C2F-EF3FAA1C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5DB90-25A6-4D04-9C03-24B64E06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0BAF-4AEB-45F8-800C-A088463F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4F001-6C0F-496D-A88E-75B7ADD2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DF42F-A028-425D-AEAA-2F4E44A8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9B608-389A-4A14-B649-B9A3DAB6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A77F3-1B90-4C12-A9DD-B221D294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04C4F-2AFF-4B6F-B95A-A4DF7E3F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866A2-2B6F-45B9-802C-90DD8EF6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A3127-979C-446B-9D53-5B000122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7380F-1C6C-4880-8F4D-6FF4B940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73ADE-62F6-4B36-81C8-88BC07C9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FB6F7-E33D-4E49-9568-1763F5AF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EAA-561C-4C47-B372-4C06F1FF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FB7EC-F10C-44A1-B18B-BED4B011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593CF-2CC2-48BC-A904-C11C2863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C918A-4815-4562-9365-4AFAEEEC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3015E-048D-474D-BEC2-2E343DED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4A19B-8DE3-43C2-BD58-5414B03B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DD12B-9612-4B07-9008-ED13729B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7402A-37FF-479C-AF90-DF64CC3D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6F82A-3EB4-4445-B6FA-1D782ABF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66A37-837D-4FA4-9253-666903CD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62CF-9225-4DDA-878A-13EE378C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542-89FE-4318-9F2F-623F7CB5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873D-1BA2-4740-8B6E-538DD90A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1BBE-87CB-40F9-9302-320A37E1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781-C3F7-4AB1-8754-EE9F3BDB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A045-09C6-4A75-916B-392F8B25E2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D0D9-ABAB-415F-B950-8887DBBBA7C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6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3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4DB3-5E1B-4AD5-A7AA-601C9CF217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5E8F-94A9-4E0B-B0E0-CA4661754E4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58560" y="326520"/>
            <a:ext cx="7885080" cy="26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763640" y="4287960"/>
            <a:ext cx="7156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Ав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матическое план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Урок. Итоговое заня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с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Ресур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oblcit"/>
          <p:cNvPicPr/>
          <p:nvPr/>
        </p:nvPicPr>
        <p:blipFill>
          <a:blip r:embed="rId1"/>
          <a:stretch/>
        </p:blipFill>
        <p:spPr>
          <a:xfrm>
            <a:off x="250920" y="326880"/>
            <a:ext cx="1344600" cy="1344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1"/>
          <p:cNvSpPr/>
          <p:nvPr/>
        </p:nvSpPr>
        <p:spPr>
          <a:xfrm>
            <a:off x="537840" y="3297240"/>
            <a:ext cx="92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Изобразительное искусство. 7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Скругленный прямоугольник 5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Object 7" descr=""/>
          <p:cNvPicPr/>
          <p:nvPr/>
        </p:nvPicPr>
        <p:blipFill>
          <a:blip r:embed="rId1"/>
          <a:stretch/>
        </p:blipFill>
        <p:spPr>
          <a:xfrm>
            <a:off x="2881440" y="603360"/>
            <a:ext cx="3381120" cy="485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bs-aaw-TomPerkinson-KatsinaWithButterfly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7"/>
          <p:cNvSpPr/>
          <p:nvPr/>
        </p:nvSpPr>
        <p:spPr>
          <a:xfrm>
            <a:off x="0" y="260280"/>
            <a:ext cx="5076720" cy="87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Все жанр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искусств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хороши, кром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       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скучного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bat"/>
              </a:rPr>
              <a:t>но скука - не жан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</a:t>
            </a:r>
            <a:r>
              <a:rPr b="0" lang="ru-RU" sz="3600" spc="-1" strike="noStrike">
                <a:solidFill>
                  <a:srgbClr val="ffcc00"/>
                </a:solidFill>
                <a:latin typeface="Arbat"/>
              </a:rPr>
              <a:t>Воль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portrait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), изображение человека или группы людей; в изобразительном искусстве один из жанров, в котором воссоздается человеческая индивидуальнос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7" descr="1"/>
          <p:cNvPicPr/>
          <p:nvPr/>
        </p:nvPicPr>
        <p:blipFill>
          <a:blip r:embed="rId1"/>
          <a:stretch/>
        </p:blipFill>
        <p:spPr>
          <a:xfrm>
            <a:off x="4788000" y="1628640"/>
            <a:ext cx="40719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533920" y="2599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ейза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2004480"/>
            <a:ext cx="433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франц. pays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вид, изображение какой-либо местности; в живописи и графике жанр, в котором основной предмет изображения — природа. Часто изображаются виды городов или архитектурных комплексов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архитектурный пейзаж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едут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морские виды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марин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7" descr="1"/>
          <p:cNvPicPr/>
          <p:nvPr/>
        </p:nvPicPr>
        <p:blipFill>
          <a:blip r:embed="rId1"/>
          <a:stretch/>
        </p:blipFill>
        <p:spPr>
          <a:xfrm>
            <a:off x="5076720" y="1628640"/>
            <a:ext cx="3678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Comic Sans MS"/>
              </a:rPr>
              <a:t>Натюрморт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537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Monotype Corsiva"/>
              </a:rPr>
              <a:t>nature morte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букв. — мертвая природа), жанр изобразительного искусства (главным образом станковой живописи), посвященный изображению неодушевленных предметов (утварь, плоды, дичь, букеты цветов, атрибуты какой-либо деятельности и т. д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292720" y="1628640"/>
            <a:ext cx="3543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20000"/>
                </a:solidFill>
                <a:latin typeface="Monotype Corsiva"/>
              </a:rPr>
              <a:t>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Скульп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 от лат.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sculp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высекаю),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ид изобразительного искусства, произведения которого имеют объемную, трехмерную форму и выполняются из твердых или пластических материалов. Скульптура изображает главным образом человека, реже животны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    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Художественные  средства скульптур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строение объемной формы, пластическая моделировка (лепка), разработка силуэта, фактуры, в некоторых случаях также цвета. Различаются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руглая скульптура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статуя, группа, статуэтка, бюст), осматриваемая с разных сторон, и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льеф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зображение располагается на плоскости фон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Рельеф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900000" y="57340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ату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1" descr="1"/>
          <p:cNvPicPr/>
          <p:nvPr/>
        </p:nvPicPr>
        <p:blipFill>
          <a:blip r:embed="rId1"/>
          <a:stretch/>
        </p:blipFill>
        <p:spPr>
          <a:xfrm>
            <a:off x="539640" y="519120"/>
            <a:ext cx="3867120" cy="5214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1"/>
          <p:cNvPicPr/>
          <p:nvPr/>
        </p:nvPicPr>
        <p:blipFill>
          <a:blip r:embed="rId2"/>
          <a:stretch/>
        </p:blipFill>
        <p:spPr>
          <a:xfrm>
            <a:off x="5148360" y="1341360"/>
            <a:ext cx="34700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Архитек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от греч.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architekthon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строитель),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скусство проектировать и строить здания и др. сооружения , создающие среду, необходимую людям для их жизни и деятельности, в соответствии с назначением общества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Выразительные средства архитектур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— композиция, тектоника, масштаб, пропорции, ритм, пластика объемов, фактура и цвет материалов.  В архитектуре взаимосвязаны функциональные, технические, эстетические начала (польза, прочность, красота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Храм Василия Блаженного в Москв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5003640" y="4365720"/>
            <a:ext cx="41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Портик Нов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Эрмитажа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кт–Петербург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12" descr="1"/>
          <p:cNvPicPr/>
          <p:nvPr/>
        </p:nvPicPr>
        <p:blipFill>
          <a:blip r:embed="rId1"/>
          <a:stretch/>
        </p:blipFill>
        <p:spPr>
          <a:xfrm>
            <a:off x="395280" y="1916280"/>
            <a:ext cx="4027320" cy="4484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1"/>
          <p:cNvPicPr/>
          <p:nvPr/>
        </p:nvPicPr>
        <p:blipFill>
          <a:blip r:embed="rId2"/>
          <a:srcRect l="0" t="0" r="0" b="-265"/>
          <a:stretch/>
        </p:blipFill>
        <p:spPr>
          <a:xfrm>
            <a:off x="5003640" y="549360"/>
            <a:ext cx="383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40360" y="3212640"/>
            <a:ext cx="374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геев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ьян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ла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40360" y="4508280"/>
            <a:ext cx="4751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подаваемый предмет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бразительное искусство (ИЗО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ж работы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5 л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лечения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шивание, вязан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ет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258920" y="333360"/>
            <a:ext cx="788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oblcit"/>
          <p:cNvPicPr/>
          <p:nvPr/>
        </p:nvPicPr>
        <p:blipFill>
          <a:blip r:embed="rId1"/>
          <a:stretch/>
        </p:blipFill>
        <p:spPr>
          <a:xfrm>
            <a:off x="250920" y="333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8163720" y="64911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SP_A0083"/>
          <p:cNvPicPr/>
          <p:nvPr/>
        </p:nvPicPr>
        <p:blipFill>
          <a:blip r:embed="rId2"/>
          <a:stretch/>
        </p:blipFill>
        <p:spPr>
          <a:xfrm>
            <a:off x="395280" y="2997360"/>
            <a:ext cx="3598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Monotype Corsiva"/>
              </a:rPr>
              <a:t> 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График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6612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т (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graph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пишу), вид изобразительного искусства, включающий рисунок и печатные художественные изображения (гравюра, литография и др.), основанные на искусстве рисунка и выполненные карандашом, пером или угл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628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Monotype Corsiva"/>
              </a:rPr>
              <a:t>Выразительные средства графики</a:t>
            </a:r>
            <a:r>
              <a:rPr b="0" lang="ru-RU" sz="36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— контурная линия, штрих, пятно (иногда цветовое), фон листа, с которым изображение образует контрастное или нюансное  соотношение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Гравюра                                 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32400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Литограф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12" descr="1"/>
          <p:cNvPicPr/>
          <p:nvPr/>
        </p:nvPicPr>
        <p:blipFill>
          <a:blip r:embed="rId1"/>
          <a:stretch/>
        </p:blipFill>
        <p:spPr>
          <a:xfrm>
            <a:off x="324000" y="260280"/>
            <a:ext cx="3976560" cy="5764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1"/>
          <p:cNvPicPr/>
          <p:nvPr/>
        </p:nvPicPr>
        <p:blipFill>
          <a:blip r:embed="rId2"/>
          <a:stretch/>
        </p:blipFill>
        <p:spPr>
          <a:xfrm>
            <a:off x="4788000" y="692280"/>
            <a:ext cx="3976560" cy="57909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5"/>
          <p:cNvSpPr/>
          <p:nvPr/>
        </p:nvSpPr>
        <p:spPr>
          <a:xfrm>
            <a:off x="7827840" y="649116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3240" y="230040"/>
            <a:ext cx="7556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Тест по изобразительному искусству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ahoma"/>
              </a:rPr>
              <a:t>Соотнесите  представителей искусства и эпох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. Средние века         а. Э. Неизвес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. Новое время          б. Леонардо да  Винч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.Современность       в. Сальвадор Дали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3456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 Портр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. Натюрмо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Пейз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Соотнесите  жанр искусства и репродукцию.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5919840" y="1556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63880" y="4161600"/>
            <a:ext cx="4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6432480" y="31932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3830400" y="41662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3773880" y="24915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6433200" y="5012280"/>
            <a:ext cx="7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14" descr="1"/>
          <p:cNvPicPr/>
          <p:nvPr/>
        </p:nvPicPr>
        <p:blipFill>
          <a:blip r:embed="rId1"/>
          <a:stretch/>
        </p:blipFill>
        <p:spPr>
          <a:xfrm>
            <a:off x="7164360" y="1413000"/>
            <a:ext cx="1432080" cy="1474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" descr="Рисунок1"/>
          <p:cNvPicPr/>
          <p:nvPr/>
        </p:nvPicPr>
        <p:blipFill>
          <a:blip r:embed="rId2"/>
          <a:stretch/>
        </p:blipFill>
        <p:spPr>
          <a:xfrm>
            <a:off x="7093080" y="3141720"/>
            <a:ext cx="1492200" cy="1485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6" descr="1"/>
          <p:cNvPicPr/>
          <p:nvPr/>
        </p:nvPicPr>
        <p:blipFill>
          <a:blip r:embed="rId3"/>
          <a:stretch/>
        </p:blipFill>
        <p:spPr>
          <a:xfrm>
            <a:off x="7093080" y="4941720"/>
            <a:ext cx="1604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Укажите название репродукции и соотнесите с автором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651400" y="39945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 flipH="1">
            <a:off x="468360" y="342828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2651400" y="39423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1800" y="4941000"/>
            <a:ext cx="6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2619360" y="4025880"/>
            <a:ext cx="39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5929920" y="198828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4000320" y="25660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3998520" y="398520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5940360" y="342900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6212520" y="594900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в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1"/>
          <p:cNvSpPr/>
          <p:nvPr/>
        </p:nvSpPr>
        <p:spPr>
          <a:xfrm>
            <a:off x="3939480" y="40129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4430880" y="622944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23" descr="1"/>
          <p:cNvPicPr/>
          <p:nvPr/>
        </p:nvPicPr>
        <p:blipFill>
          <a:blip r:embed="rId1"/>
          <a:stretch/>
        </p:blipFill>
        <p:spPr>
          <a:xfrm>
            <a:off x="1403280" y="1557360"/>
            <a:ext cx="1527120" cy="1452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4" descr="1"/>
          <p:cNvPicPr/>
          <p:nvPr/>
        </p:nvPicPr>
        <p:blipFill>
          <a:blip r:embed="rId2"/>
          <a:stretch/>
        </p:blipFill>
        <p:spPr>
          <a:xfrm>
            <a:off x="1403280" y="3213000"/>
            <a:ext cx="1441440" cy="1444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5" descr="1"/>
          <p:cNvPicPr/>
          <p:nvPr/>
        </p:nvPicPr>
        <p:blipFill>
          <a:blip r:embed="rId3"/>
          <a:stretch/>
        </p:blipFill>
        <p:spPr>
          <a:xfrm>
            <a:off x="1332000" y="4797360"/>
            <a:ext cx="1660320" cy="1590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6" descr="1"/>
          <p:cNvPicPr/>
          <p:nvPr/>
        </p:nvPicPr>
        <p:blipFill>
          <a:blip r:embed="rId4"/>
          <a:stretch/>
        </p:blipFill>
        <p:spPr>
          <a:xfrm>
            <a:off x="6877080" y="1341360"/>
            <a:ext cx="1809720" cy="1801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7" descr="1"/>
          <p:cNvPicPr/>
          <p:nvPr/>
        </p:nvPicPr>
        <p:blipFill>
          <a:blip r:embed="rId5"/>
          <a:srcRect l="0" t="0" r="0" b="-195"/>
          <a:stretch/>
        </p:blipFill>
        <p:spPr>
          <a:xfrm>
            <a:off x="6804000" y="3284640"/>
            <a:ext cx="1944720" cy="13935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8" descr="1"/>
          <p:cNvPicPr/>
          <p:nvPr/>
        </p:nvPicPr>
        <p:blipFill>
          <a:blip r:embed="rId6"/>
          <a:stretch/>
        </p:blipFill>
        <p:spPr>
          <a:xfrm>
            <a:off x="6877080" y="4941720"/>
            <a:ext cx="1881000" cy="17431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29"/>
          <p:cNvSpPr/>
          <p:nvPr/>
        </p:nvSpPr>
        <p:spPr>
          <a:xfrm>
            <a:off x="5940360" y="508464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720" y="290160"/>
            <a:ext cx="8136000" cy="865080"/>
          </a:xfrm>
          <a:prstGeom prst="rect">
            <a:avLst/>
          </a:prstGeom>
          <a:solidFill>
            <a:srgbClr val="3366ff">
              <a:alpha val="1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Monotype Corsiva"/>
              </a:rPr>
              <a:t>Список используемой литератур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91280" cy="4397400"/>
          </a:xfrm>
          <a:prstGeom prst="rect">
            <a:avLst/>
          </a:prstGeom>
          <a:solidFill>
            <a:srgbClr val="0033cc">
              <a:alpha val="37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Н. Ростовцев, «Методика преподавания изобразительного искусства в школе»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Н.М. Сокольникова, « Основы рисунка», 1996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В.С. Кузин, «Изобразительное искусство в школе», 1995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М.Г. Дрезнина, «Каждый ребенок – художник», 200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Т.Н. Вышинская, «Уроки рисования», 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megabook.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bat"/>
              </a:rPr>
              <a:t>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Искусство –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посред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того, чего нельз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</a:t>
            </a: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высказать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                 </a:t>
            </a:r>
            <a:r>
              <a:rPr b="0" i="1" lang="ru-RU" sz="4400" spc="-1" strike="noStrike">
                <a:solidFill>
                  <a:srgbClr val="ffffff"/>
                </a:solidFill>
                <a:latin typeface="Arbat"/>
              </a:rPr>
              <a:t>Ге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Содержание уро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3272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иды изобразительного  искус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Живоп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пись и ее жан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кульп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Архитек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Граф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bat"/>
              </a:rPr>
              <a:t>   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Виды изобразительного искусств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18320" cy="5029200"/>
          </a:xfrm>
          <a:prstGeom prst="rect">
            <a:avLst/>
          </a:prstGeom>
          <a:solidFill>
            <a:srgbClr val="0000ff">
              <a:alpha val="1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ам,  конечно, доводилось видеть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рисун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карандашом или углем на бумаг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картины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написанные красками на холст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памятни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– гранитные и мраморные, расписные глиняные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игруш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здания храмов и музеев – старинные и построенные давно.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4869000"/>
            <a:ext cx="8208720" cy="1503360"/>
          </a:xfrm>
          <a:prstGeom prst="rect">
            <a:avLst/>
          </a:prstGeom>
          <a:solidFill>
            <a:srgbClr val="3366ff">
              <a:alpha val="3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е это – произведения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скусства различных его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ffff"/>
                </a:solidFill>
                <a:latin typeface="Arbat"/>
              </a:rPr>
              <a:t>видов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Object 48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305160" cy="1054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5" descr="1"/>
          <p:cNvPicPr/>
          <p:nvPr/>
        </p:nvPicPr>
        <p:blipFill>
          <a:blip r:embed="rId2"/>
          <a:stretch/>
        </p:blipFill>
        <p:spPr>
          <a:xfrm>
            <a:off x="900000" y="189000"/>
            <a:ext cx="3543480" cy="4422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7" descr="2"/>
          <p:cNvPicPr/>
          <p:nvPr/>
        </p:nvPicPr>
        <p:blipFill>
          <a:blip r:embed="rId3"/>
          <a:stretch/>
        </p:blipFill>
        <p:spPr>
          <a:xfrm>
            <a:off x="4859280" y="189000"/>
            <a:ext cx="3402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Живопис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ид изобразительного искусства, произведения которого создаются с помощью красок, наносимых на какую-либо поверхность.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Живопись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— важное средство художественного отражения и истолкования действительности, воздействия на мысли и чувства зр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Основные технические разновидности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масляная живопись, живопись водяными красками по штукатурке — сыр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фреска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сух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а секко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,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емпера, клеевая живопись, восковая живопись, эмаль, живопись керамическая, силикатными, синтетическими красками, мозаика, витраж; акварель, гуашь, пасте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итраж собора в Шартр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5148360" y="5300640"/>
            <a:ext cx="366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Фрес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монастыр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 – Мар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2" descr="3"/>
          <p:cNvPicPr/>
          <p:nvPr/>
        </p:nvPicPr>
        <p:blipFill>
          <a:blip r:embed="rId1"/>
          <a:stretch/>
        </p:blipFill>
        <p:spPr>
          <a:xfrm>
            <a:off x="468360" y="1557360"/>
            <a:ext cx="3819600" cy="4876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1"/>
          <p:cNvPicPr/>
          <p:nvPr/>
        </p:nvPicPr>
        <p:blipFill>
          <a:blip r:embed="rId2"/>
          <a:stretch/>
        </p:blipFill>
        <p:spPr>
          <a:xfrm>
            <a:off x="5076720" y="333360"/>
            <a:ext cx="34704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1:14:00Z</dcterms:created>
  <dc:creator>Наташа</dc:creator>
  <dc:description/>
  <dc:language>en-US</dc:language>
  <cp:lastModifiedBy>Name</cp:lastModifiedBy>
  <dcterms:modified xsi:type="dcterms:W3CDTF">2011-02-03T12:41:54Z</dcterms:modified>
  <cp:revision>26</cp:revision>
  <dc:subject/>
  <dc:title>Виды изобразительного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d0000000000010243000207f6000400038000</vt:lpwstr>
  </property>
</Properties>
</file>